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54D-38A5-4D41-BC43-C91455A2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93B-F3D8-412D-AED7-4C2BD94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29B-9A64-4B47-A9E4-54785D3B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CBA-5CCA-4E92-8AC1-F2944ACE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2DC-D482-42BA-B172-F3881CD2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BE88-C733-4B24-A725-D54C2BAE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EE9A-EEEF-459F-9618-6C47F7F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F3A-6A24-4C10-A7CD-281B272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E7D-9A3B-4CB2-827E-DF3A3FC2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7FF9-902B-457C-AC6A-5A47B89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5AC1-C62D-4637-A9C4-BF9362F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FC6-4712-48E8-BE04-9465784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3164-3A03-4448-9ADD-9875D3D2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AE0-1068-4189-AC70-9B0577E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2133-9D6D-47A4-BE3C-628FB79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4F2C-D1B2-41B0-87E7-7919B965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80A0-BE4E-4E60-B14C-3C489A03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6BBC-8117-433D-99D7-9E0D21B0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8AC6-5D72-4BED-9FA2-E7B8545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09FE-133A-4216-ACAF-004F48E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CB52-AB61-4E60-81E0-2A2F0EC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1966-E431-4739-B91D-1C459901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052-9134-4D80-BDF1-C8091017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7466-6510-4F34-9629-06AE15B8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484D-DA37-448E-9CA1-C1AAD43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C934-7C16-45C8-804D-200C276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61EB-C0B4-4719-AD7D-36BB9B0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FDFA-68CD-49C2-8775-661217C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27EA-6BCD-4880-8FA3-2B46C398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A473-E8D4-4CAC-B9F7-8F973793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2F6B-C43F-48B1-BAFA-E0B8D31E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DEE9-1437-4983-9B86-8963E193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753B-DF48-4291-8A24-3FBD3BEB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A80-A660-4508-AB72-9F980E8A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A0373-BAEA-423B-8A09-D30A2F9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329E-52F8-49B6-A9AE-EA8F5B5A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17EA-97A2-4F9B-A344-7C837C35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E333-1FBC-4D70-A25C-5BEF1E6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A704-E929-4D35-8F85-8938DFC8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B54D-D00D-44DC-80DF-9F07537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2D16-D347-40CF-8D09-DB6193BE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6593-BA0C-4770-B499-3AB1852E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ED9A-2440-4F1F-80F2-5F7FC9F9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FEBC7-78A4-41A3-A190-4BB7C609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CC6-D41C-45F2-B9FA-81F3635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E6B9-92E3-45C8-A4E5-82E28030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437E-9DA4-456A-8851-7D43D38D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458D-1CE5-4509-81B5-9E9B8289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C7B0-1FAB-440C-921D-25EE9354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553C7-85AB-42BE-9F8B-AB32FEB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188E-27DE-4936-96F7-551A4DB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6C63D-8203-4F4D-9252-6D0F2DB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C64AA-8713-46C3-8216-7B2CA5C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F4E75-34AF-4A47-92E7-094509C9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DA7A-AAD5-4004-A3A6-8830A473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2F4-EA30-487B-B83D-26B4FEC5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66C9-0900-417D-8A3F-EF32D8CF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DB0CC-6DCC-4128-9A97-9CFEFCD3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8062-666A-4253-B674-7A6C849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2D7E6-9D26-4245-AB46-E75D0C4F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7C5D-DD4F-4F7F-9676-F7416E2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FC6B-FC3D-446F-892B-599A8742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8B819-4415-4D8F-A14B-161634F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A24DD-4C38-482E-AB0A-F146FEB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F1F0-73F9-4B4B-8BB6-1DC89209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83AC2-A93C-4CC8-9AB3-0ECBC3D3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51A-D90D-4548-BF59-A2F01B4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F649F-8346-4760-AD1E-A9852C1E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786F-8423-40E4-B349-D4BF1115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188F-8F21-433D-90E9-DA2A8B34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FC30-2DFE-492A-8852-020E0B6F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B380-7B92-4598-9B86-D321929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A66BE-AEF7-445E-AC58-3E31E304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03B0-9903-4517-8A8A-FA398E7D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334EE-519E-4FA3-94DC-113C39A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E2D47-BC10-4779-95F4-8388A23A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7EE15-B083-4525-A27E-DD0C784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DDB-475A-4C77-B04A-520FE4F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68A4-771D-42C4-B4B9-18DC74A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1DFB-F1B4-431D-8F13-F01BCB1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E11A-E7BE-4F50-9EF8-C6C8C19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0B980-75AD-4928-B3E0-6D621DA2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7D54C-DB05-4ACA-B990-DD6BA38D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E2FA4-A3AA-477B-B5DC-358C0256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D733E-AF8F-4CF5-9823-F5797CD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4D6D5-9E03-4B3E-9FE1-57630D2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CFD8-0863-4677-B6DF-0C0D8CE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8D40-2302-4378-AA9B-E8E2693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888-4339-44A8-BF00-9F678A7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676E5-B40E-485A-9BF5-34DA442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75A7-E69F-4F32-9563-14D92446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0138F-3CFA-4213-B6D0-2725721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810E-BE48-48BD-B5E2-ABFDF80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EA15-FCFB-4879-8D06-98F8E7C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B40A4-59F3-47FE-9263-695C7489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94182-E8D3-4C56-924F-9D2F5816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F09-4294-4C74-B03E-87B16E5111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E8A-964F-485E-85B0-C7DF7AC974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041-3B25-4224-8045-3751E08B35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0143-6259-4FE6-BD6F-6598089E1A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982B-A9F6-4BDE-A439-0DE0A942B9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7EB0-037A-49DC-A029-08B108D958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F1E7-D0D3-4666-8958-3CD6A23D64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0892-B9D1-4746-BC6E-15A3BD94BD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hapter 2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Straight Connector 6"/>
          <p:cNvSpPr/>
          <p:nvPr/>
        </p:nvSpPr>
        <p:spPr>
          <a:xfrm flipH="1">
            <a:off x="1064880" y="1525680"/>
            <a:ext cx="3240" cy="342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1066680" y="4952880"/>
            <a:ext cx="43434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Straight Connector 10"/>
          <p:cNvSpPr/>
          <p:nvPr/>
        </p:nvSpPr>
        <p:spPr>
          <a:xfrm flipV="1">
            <a:off x="1752480" y="1904760"/>
            <a:ext cx="3048120" cy="2438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525780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3049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49528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17"/>
          <p:cNvSpPr/>
          <p:nvPr/>
        </p:nvSpPr>
        <p:spPr>
          <a:xfrm>
            <a:off x="6324480" y="16002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ggragate Supply Curve – Shows for each possible price level, the quantity of G &amp; S that all the nation’s businesses are willing to produ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Straight Connector 4"/>
          <p:cNvSpPr/>
          <p:nvPr/>
        </p:nvSpPr>
        <p:spPr>
          <a:xfrm flipH="1">
            <a:off x="988560" y="1525680"/>
            <a:ext cx="3240" cy="3047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990720" y="4572000"/>
            <a:ext cx="41148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4952880" y="4800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380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traight Connector 10"/>
          <p:cNvSpPr/>
          <p:nvPr/>
        </p:nvSpPr>
        <p:spPr>
          <a:xfrm flipV="1">
            <a:off x="1752480" y="1752120"/>
            <a:ext cx="2667240" cy="2133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Straight Connector 12"/>
          <p:cNvSpPr/>
          <p:nvPr/>
        </p:nvSpPr>
        <p:spPr>
          <a:xfrm>
            <a:off x="1676520" y="1676520"/>
            <a:ext cx="2971800" cy="2514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traight Connector 16"/>
          <p:cNvSpPr/>
          <p:nvPr/>
        </p:nvSpPr>
        <p:spPr>
          <a:xfrm flipH="1">
            <a:off x="3045960" y="2820960"/>
            <a:ext cx="3240" cy="17524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Straight Connector 18"/>
          <p:cNvSpPr/>
          <p:nvPr/>
        </p:nvSpPr>
        <p:spPr>
          <a:xfrm flipH="1" flipV="1">
            <a:off x="990360" y="2819520"/>
            <a:ext cx="20574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9"/>
          <p:cNvSpPr/>
          <p:nvPr/>
        </p:nvSpPr>
        <p:spPr>
          <a:xfrm>
            <a:off x="44956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20"/>
          <p:cNvSpPr/>
          <p:nvPr/>
        </p:nvSpPr>
        <p:spPr>
          <a:xfrm>
            <a:off x="4724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21"/>
          <p:cNvSpPr/>
          <p:nvPr/>
        </p:nvSpPr>
        <p:spPr>
          <a:xfrm>
            <a:off x="266688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2"/>
          <p:cNvSpPr/>
          <p:nvPr/>
        </p:nvSpPr>
        <p:spPr>
          <a:xfrm>
            <a:off x="304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Oval 23"/>
          <p:cNvSpPr/>
          <p:nvPr/>
        </p:nvSpPr>
        <p:spPr>
          <a:xfrm flipH="1" flipV="1">
            <a:off x="3047400" y="2818800"/>
            <a:ext cx="75960" cy="759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4"/>
          <p:cNvSpPr/>
          <p:nvPr/>
        </p:nvSpPr>
        <p:spPr>
          <a:xfrm>
            <a:off x="2895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traight Connector 26"/>
          <p:cNvSpPr/>
          <p:nvPr/>
        </p:nvSpPr>
        <p:spPr>
          <a:xfrm>
            <a:off x="838080" y="2438280"/>
            <a:ext cx="3049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Straight Connector 28"/>
          <p:cNvSpPr/>
          <p:nvPr/>
        </p:nvSpPr>
        <p:spPr>
          <a:xfrm>
            <a:off x="838080" y="2057400"/>
            <a:ext cx="3049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traight Connector 31"/>
          <p:cNvSpPr/>
          <p:nvPr/>
        </p:nvSpPr>
        <p:spPr>
          <a:xfrm>
            <a:off x="838080" y="3124080"/>
            <a:ext cx="3049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Straight Connector 33"/>
          <p:cNvSpPr/>
          <p:nvPr/>
        </p:nvSpPr>
        <p:spPr>
          <a:xfrm>
            <a:off x="838080" y="3352680"/>
            <a:ext cx="3049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TextBox 35"/>
          <p:cNvSpPr/>
          <p:nvPr/>
        </p:nvSpPr>
        <p:spPr>
          <a:xfrm>
            <a:off x="38088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TextBox 36"/>
          <p:cNvSpPr/>
          <p:nvPr/>
        </p:nvSpPr>
        <p:spPr>
          <a:xfrm>
            <a:off x="304920" y="2286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TextBox 37"/>
          <p:cNvSpPr/>
          <p:nvPr/>
        </p:nvSpPr>
        <p:spPr>
          <a:xfrm>
            <a:off x="304920" y="1905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38"/>
          <p:cNvSpPr/>
          <p:nvPr/>
        </p:nvSpPr>
        <p:spPr>
          <a:xfrm>
            <a:off x="38088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Straight Connector 40"/>
          <p:cNvSpPr/>
          <p:nvPr/>
        </p:nvSpPr>
        <p:spPr>
          <a:xfrm flipH="1">
            <a:off x="3579480" y="4497480"/>
            <a:ext cx="324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Straight Connector 42"/>
          <p:cNvSpPr/>
          <p:nvPr/>
        </p:nvSpPr>
        <p:spPr>
          <a:xfrm flipH="1">
            <a:off x="4036680" y="4497480"/>
            <a:ext cx="324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Straight Connector 44"/>
          <p:cNvSpPr/>
          <p:nvPr/>
        </p:nvSpPr>
        <p:spPr>
          <a:xfrm flipH="1">
            <a:off x="2513160" y="4497480"/>
            <a:ext cx="288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traight Connector 46"/>
          <p:cNvSpPr/>
          <p:nvPr/>
        </p:nvSpPr>
        <p:spPr>
          <a:xfrm flipH="1">
            <a:off x="2055960" y="4497480"/>
            <a:ext cx="288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47"/>
          <p:cNvSpPr/>
          <p:nvPr/>
        </p:nvSpPr>
        <p:spPr>
          <a:xfrm>
            <a:off x="3200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64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48"/>
          <p:cNvSpPr/>
          <p:nvPr/>
        </p:nvSpPr>
        <p:spPr>
          <a:xfrm>
            <a:off x="220968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56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Box 49"/>
          <p:cNvSpPr/>
          <p:nvPr/>
        </p:nvSpPr>
        <p:spPr>
          <a:xfrm>
            <a:off x="38862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68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Box 50"/>
          <p:cNvSpPr/>
          <p:nvPr/>
        </p:nvSpPr>
        <p:spPr>
          <a:xfrm>
            <a:off x="160020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52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Box 51"/>
          <p:cNvSpPr/>
          <p:nvPr/>
        </p:nvSpPr>
        <p:spPr>
          <a:xfrm>
            <a:off x="5715000" y="1447920"/>
            <a:ext cx="3200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intersects AD at equilibrium point E, therefore EGDP is at 6000 and 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is at 100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4"/>
          <p:cNvSpPr/>
          <p:nvPr/>
        </p:nvSpPr>
        <p:spPr>
          <a:xfrm flipH="1">
            <a:off x="1064880" y="1525680"/>
            <a:ext cx="3240" cy="297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traight Connector 6"/>
          <p:cNvSpPr/>
          <p:nvPr/>
        </p:nvSpPr>
        <p:spPr>
          <a:xfrm>
            <a:off x="990720" y="4495680"/>
            <a:ext cx="36576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4956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3808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Straight Connector 10"/>
          <p:cNvSpPr/>
          <p:nvPr/>
        </p:nvSpPr>
        <p:spPr>
          <a:xfrm flipV="1">
            <a:off x="1447920" y="1676160"/>
            <a:ext cx="2057400" cy="1904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traight Connector 11"/>
          <p:cNvSpPr/>
          <p:nvPr/>
        </p:nvSpPr>
        <p:spPr>
          <a:xfrm flipV="1">
            <a:off x="2057400" y="1752120"/>
            <a:ext cx="2286000" cy="221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Straight Connector 13"/>
          <p:cNvSpPr/>
          <p:nvPr/>
        </p:nvSpPr>
        <p:spPr>
          <a:xfrm>
            <a:off x="1447920" y="1752480"/>
            <a:ext cx="2971800" cy="221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Straight Connector 17"/>
          <p:cNvSpPr/>
          <p:nvPr/>
        </p:nvSpPr>
        <p:spPr>
          <a:xfrm flipH="1">
            <a:off x="3122640" y="1447920"/>
            <a:ext cx="1440" cy="3049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Straight Connector 24"/>
          <p:cNvSpPr/>
          <p:nvPr/>
        </p:nvSpPr>
        <p:spPr>
          <a:xfrm flipH="1">
            <a:off x="2514600" y="2514600"/>
            <a:ext cx="1440" cy="1982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traight Connector 27"/>
          <p:cNvSpPr/>
          <p:nvPr/>
        </p:nvSpPr>
        <p:spPr>
          <a:xfrm flipH="1" flipV="1">
            <a:off x="1066680" y="2590920"/>
            <a:ext cx="14479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Straight Connector 29"/>
          <p:cNvSpPr/>
          <p:nvPr/>
        </p:nvSpPr>
        <p:spPr>
          <a:xfrm flipH="1" flipV="1">
            <a:off x="1066320" y="2971800"/>
            <a:ext cx="20574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3581280" y="14479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4419720" y="1523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Box 32"/>
          <p:cNvSpPr/>
          <p:nvPr/>
        </p:nvSpPr>
        <p:spPr>
          <a:xfrm>
            <a:off x="45720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TextBox 33"/>
          <p:cNvSpPr/>
          <p:nvPr/>
        </p:nvSpPr>
        <p:spPr>
          <a:xfrm>
            <a:off x="2819520" y="4495680"/>
            <a:ext cx="91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GDP EGD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Box 34"/>
          <p:cNvSpPr/>
          <p:nvPr/>
        </p:nvSpPr>
        <p:spPr>
          <a:xfrm>
            <a:off x="1981080" y="44956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GD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Box 35"/>
          <p:cNvSpPr/>
          <p:nvPr/>
        </p:nvSpPr>
        <p:spPr>
          <a:xfrm>
            <a:off x="380880" y="243828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36"/>
          <p:cNvSpPr/>
          <p:nvPr/>
        </p:nvSpPr>
        <p:spPr>
          <a:xfrm>
            <a:off x="457200" y="2819520"/>
            <a:ext cx="7621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1" name="Straight Arrow Connector 38"/>
          <p:cNvCxnSpPr/>
          <p:nvPr/>
        </p:nvCxnSpPr>
        <p:spPr>
          <a:xfrm flipH="1">
            <a:off x="1293120" y="2590920"/>
            <a:ext cx="3960" cy="383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2" name="Straight Arrow Connector 41"/>
          <p:cNvCxnSpPr/>
          <p:nvPr/>
        </p:nvCxnSpPr>
        <p:spPr>
          <a:xfrm>
            <a:off x="2514240" y="4266720"/>
            <a:ext cx="61020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3" name="Straight Arrow Connector 44"/>
          <p:cNvCxnSpPr/>
          <p:nvPr/>
        </p:nvCxnSpPr>
        <p:spPr>
          <a:xfrm>
            <a:off x="3200400" y="1980720"/>
            <a:ext cx="83880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34" name="TextBox 45"/>
          <p:cNvSpPr/>
          <p:nvPr/>
        </p:nvSpPr>
        <p:spPr>
          <a:xfrm>
            <a:off x="5486400" y="1225440"/>
            <a:ext cx="342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does it work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we get deeper into a recession workers’ need for pay will overwhelm their desire for higher wages so they will accept wage cut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e know that when wages decrease, costs decrease, therefore prices will decrease and producers will want to produce more at all level of GDP. This shifts AS ou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en EGDP is less than PGDP the self-correcting mechanism  will shift AS out, so that AS intersects with AD at PGDP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Straight Connector 3"/>
          <p:cNvSpPr/>
          <p:nvPr/>
        </p:nvSpPr>
        <p:spPr>
          <a:xfrm flipH="1">
            <a:off x="1064880" y="1525680"/>
            <a:ext cx="3240" cy="297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Straight Connector 4"/>
          <p:cNvSpPr/>
          <p:nvPr/>
        </p:nvSpPr>
        <p:spPr>
          <a:xfrm>
            <a:off x="990720" y="4495680"/>
            <a:ext cx="36576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808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traight Connector 6"/>
          <p:cNvSpPr/>
          <p:nvPr/>
        </p:nvSpPr>
        <p:spPr>
          <a:xfrm>
            <a:off x="1447920" y="1676520"/>
            <a:ext cx="2971800" cy="22096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Straight Connector 7"/>
          <p:cNvSpPr/>
          <p:nvPr/>
        </p:nvSpPr>
        <p:spPr>
          <a:xfrm flipH="1">
            <a:off x="3123720" y="1447920"/>
            <a:ext cx="1800" cy="3049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44197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Straight Connector 9"/>
          <p:cNvSpPr/>
          <p:nvPr/>
        </p:nvSpPr>
        <p:spPr>
          <a:xfrm flipV="1">
            <a:off x="2057400" y="1752120"/>
            <a:ext cx="2286000" cy="221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Box 10"/>
          <p:cNvSpPr/>
          <p:nvPr/>
        </p:nvSpPr>
        <p:spPr>
          <a:xfrm>
            <a:off x="44956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Box 11"/>
          <p:cNvSpPr/>
          <p:nvPr/>
        </p:nvSpPr>
        <p:spPr>
          <a:xfrm>
            <a:off x="4419720" y="4648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Box 12"/>
          <p:cNvSpPr/>
          <p:nvPr/>
        </p:nvSpPr>
        <p:spPr>
          <a:xfrm>
            <a:off x="274320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GDP/E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Straight Connector 14"/>
          <p:cNvSpPr/>
          <p:nvPr/>
        </p:nvSpPr>
        <p:spPr>
          <a:xfrm flipH="1" flipV="1">
            <a:off x="1066320" y="2895120"/>
            <a:ext cx="20574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Oval 15"/>
          <p:cNvSpPr/>
          <p:nvPr/>
        </p:nvSpPr>
        <p:spPr>
          <a:xfrm flipH="1" flipV="1">
            <a:off x="3047400" y="2818800"/>
            <a:ext cx="152280" cy="152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TextBox 16"/>
          <p:cNvSpPr/>
          <p:nvPr/>
        </p:nvSpPr>
        <p:spPr>
          <a:xfrm>
            <a:off x="5335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17"/>
          <p:cNvSpPr/>
          <p:nvPr/>
        </p:nvSpPr>
        <p:spPr>
          <a:xfrm>
            <a:off x="5334120" y="1219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e are at full employment when the AS curve intersects with the AD curve at the point where EGDP is equal to PGDP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2:13Z</dcterms:created>
  <dc:creator>JWUSSLER</dc:creator>
  <dc:description/>
  <dc:language>en-US</dc:language>
  <cp:lastModifiedBy>JWUSSLER</cp:lastModifiedBy>
  <dcterms:modified xsi:type="dcterms:W3CDTF">2009-01-26T19:08:46Z</dcterms:modified>
  <cp:revision>6</cp:revision>
  <dc:subject/>
  <dc:title>Unit 5</dc:title>
</cp:coreProperties>
</file>